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B473-C4B5-4493-A76C-A080C907C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93BB-9E75-426C-938F-8BC11F89A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4FC5-F549-478F-9D56-AD1484BEA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5A68-7CA6-4964-861A-A15E6ED47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69AB-3F13-4BB4-88D7-95158C728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D990-9852-45FD-834E-863A455C9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D4DD-E697-4196-BC13-F32ABCAC2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473D-0022-4480-9503-9366744C6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1F78-41A3-4230-9212-380A395A5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6AF8-762E-4C49-8A96-23B7F2E06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4BB1-4706-4600-8E6A-C20F9908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F3A5-F1CC-4269-A9E3-6D69346E3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CD2BD-09AB-4C60-BB2F-9563483349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2560" y="282240"/>
            <a:ext cx="8829720" cy="15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versity Bioinformatics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22320" y="2419200"/>
            <a:ext cx="7307280" cy="35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rry Cassteve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Institute for Genomic Diversity, Cornell Univers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MOD Meeting at NESC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rham, NC – June 29-30,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495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http://www.maizegenetics.net/gdpdm</a:t>
            </a:r>
            <a:br>
              <a:rPr sz="4100"/>
            </a:b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https://sourceforge.net/projects/gdpdm</a:t>
            </a:r>
            <a:endParaRPr b="0" lang="en-US" sz="41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2240" y="266760"/>
            <a:ext cx="8837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Times New Roman"/>
              </a:rPr>
              <a:t>Diversity Schema Web Site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2560" y="343080"/>
            <a:ext cx="8829720" cy="23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e Genomic Diversity and Phenotype Connection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(GDPC)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85880" y="5925960"/>
            <a:ext cx="535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upported by National Science Found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BI-0321685 and USDA-AR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22320" y="2952720"/>
            <a:ext cx="7307280" cy="25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rry M. Cassteven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dward S. Buckler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stitute for Genomic Diversity, Cornell Univers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USDA-ARS, Institute for Genomic Diversity, Cornell Univers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7945560" y="5864400"/>
            <a:ext cx="1069920" cy="825480"/>
          </a:xfrm>
          <a:prstGeom prst="rect">
            <a:avLst/>
          </a:prstGeom>
          <a:ln w="12600">
            <a:solidFill>
              <a:srgbClr val="a8b79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63360"/>
            <a:ext cx="777240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GDPC Purpos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30240" y="960480"/>
            <a:ext cx="732636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urpose of GDPC is to simplify access to the large genomic and phenotypic datasets that are becoming available in plant biology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7945560" y="5864400"/>
            <a:ext cx="1069920" cy="825480"/>
          </a:xfrm>
          <a:prstGeom prst="rect">
            <a:avLst/>
          </a:prstGeom>
          <a:ln w="12600">
            <a:solidFill>
              <a:srgbClr val="a8b795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0" y="61689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ww.maizegenetics.net/gdp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95360" y="2670120"/>
            <a:ext cx="1708200" cy="13273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13320" y="2670120"/>
            <a:ext cx="2909880" cy="13273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ftware View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 Analy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923240" y="2670120"/>
            <a:ext cx="944640" cy="13273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73" name=""/>
          <p:cNvCxnSpPr>
            <a:stCxn id="71" idx="3"/>
            <a:endCxn id="72" idx="1"/>
          </p:cNvCxnSpPr>
          <p:nvPr/>
        </p:nvCxnSpPr>
        <p:spPr>
          <a:xfrm>
            <a:off x="7422840" y="3333240"/>
            <a:ext cx="500760" cy="1080"/>
          </a:xfrm>
          <a:prstGeom prst="straightConnector1">
            <a:avLst/>
          </a:prstGeom>
          <a:ln w="88920">
            <a:solidFill>
              <a:srgbClr val="ffffff"/>
            </a:solidFill>
            <a:miter/>
            <a:tailEnd len="sm" type="triangle" w="med"/>
          </a:ln>
        </p:spPr>
      </p:cxnSp>
      <p:sp>
        <p:nvSpPr>
          <p:cNvPr id="74" name=""/>
          <p:cNvSpPr/>
          <p:nvPr/>
        </p:nvSpPr>
        <p:spPr>
          <a:xfrm>
            <a:off x="2790720" y="2676600"/>
            <a:ext cx="1219320" cy="13269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DP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70" idx="3"/>
            <a:endCxn id="74" idx="1"/>
          </p:cNvCxnSpPr>
          <p:nvPr/>
        </p:nvCxnSpPr>
        <p:spPr>
          <a:xfrm>
            <a:off x="2203200" y="3333600"/>
            <a:ext cx="587880" cy="7200"/>
          </a:xfrm>
          <a:prstGeom prst="straightConnector1">
            <a:avLst/>
          </a:prstGeom>
          <a:ln w="88920">
            <a:solidFill>
              <a:srgbClr val="ffffff"/>
            </a:solidFill>
            <a:miter/>
            <a:tailEnd len="sm" type="triangle" w="med"/>
          </a:ln>
        </p:spPr>
      </p:cxnSp>
      <p:cxnSp>
        <p:nvCxnSpPr>
          <p:cNvPr id="76" name=""/>
          <p:cNvCxnSpPr>
            <a:stCxn id="74" idx="3"/>
            <a:endCxn id="71" idx="1"/>
          </p:cNvCxnSpPr>
          <p:nvPr/>
        </p:nvCxnSpPr>
        <p:spPr>
          <a:xfrm flipV="1">
            <a:off x="4010040" y="3333240"/>
            <a:ext cx="504000" cy="7200"/>
          </a:xfrm>
          <a:prstGeom prst="straightConnector1">
            <a:avLst/>
          </a:prstGeom>
          <a:ln w="88920">
            <a:solidFill>
              <a:srgbClr val="ffffff"/>
            </a:solidFill>
            <a:miter/>
            <a:tailEnd len="sm" type="triangle" w="med"/>
          </a:ln>
        </p:spPr>
      </p:cxnSp>
      <p:sp>
        <p:nvSpPr>
          <p:cNvPr id="77" name=""/>
          <p:cNvSpPr/>
          <p:nvPr/>
        </p:nvSpPr>
        <p:spPr>
          <a:xfrm>
            <a:off x="465120" y="249120"/>
            <a:ext cx="823932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ata Flow via GDPC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7945560" y="5864400"/>
            <a:ext cx="1069920" cy="825480"/>
          </a:xfrm>
          <a:prstGeom prst="rect">
            <a:avLst/>
          </a:prstGeom>
          <a:ln w="12600">
            <a:solidFill>
              <a:srgbClr val="a8b795"/>
            </a:solidFill>
            <a:miter/>
          </a:ln>
        </p:spPr>
      </p:pic>
      <p:sp>
        <p:nvSpPr>
          <p:cNvPr id="79" name=""/>
          <p:cNvSpPr/>
          <p:nvPr/>
        </p:nvSpPr>
        <p:spPr>
          <a:xfrm>
            <a:off x="0" y="61689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ww.maizegenetics.net/gdp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11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Databases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62080" y="809640"/>
            <a:ext cx="8615160" cy="56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ramene Diversity (GDPDM schema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anzea (GDPDM schema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ea Database (Germinate schema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ztec (private GDPDM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RIN (passport data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7942320" y="5867280"/>
            <a:ext cx="1069920" cy="825480"/>
          </a:xfrm>
          <a:prstGeom prst="rect">
            <a:avLst/>
          </a:prstGeom>
          <a:ln w="12600">
            <a:solidFill>
              <a:srgbClr val="a8b79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91960" y="509760"/>
            <a:ext cx="8683920" cy="57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91960" y="509760"/>
            <a:ext cx="8683920" cy="57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495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ttp://www.maizegenetics.net/gdpc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ttps://sourceforge.net/projects/gdpc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7670880" y="5624640"/>
            <a:ext cx="1285920" cy="990360"/>
          </a:xfrm>
          <a:prstGeom prst="rect">
            <a:avLst/>
          </a:prstGeom>
          <a:ln w="12600">
            <a:solidFill>
              <a:srgbClr val="a8b795"/>
            </a:solidFill>
            <a:miter/>
          </a:ln>
        </p:spPr>
      </p:pic>
      <p:sp>
        <p:nvSpPr>
          <p:cNvPr id="87" name=""/>
          <p:cNvSpPr/>
          <p:nvPr/>
        </p:nvSpPr>
        <p:spPr>
          <a:xfrm>
            <a:off x="192240" y="266760"/>
            <a:ext cx="8837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Times New Roman"/>
              </a:rPr>
              <a:t>GDPC Web Site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2560" y="343080"/>
            <a:ext cx="8829720" cy="23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rait Analysis by aSSociation, Evolution, and Linkage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(TASSEL)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22320" y="3281400"/>
            <a:ext cx="7307280" cy="23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dward S. Buckler, Dallas Kroon, Peter Bradbury, Zhiwu Zhang, and Terry Cassteve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Institute for Genomic Diversity, Cornell Univers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640640" y="5799240"/>
            <a:ext cx="1289160" cy="87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55760" y="620640"/>
            <a:ext cx="8226360" cy="561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2560" y="231840"/>
            <a:ext cx="8829720" cy="23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e Genomic Diversity and Phenotype Data Model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(GDPDM)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2320" y="3435480"/>
            <a:ext cx="7307280" cy="24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rry M. Cassteven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Dallas Kroon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Peter Bradbury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Edward S. Buckler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1,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and many other review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stitute for Genomic Diversity, Cornell Univers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USDA-A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495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ttp://www.maizegenetics.net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ttps://sourceforge.net/projects/tassel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2240" y="266760"/>
            <a:ext cx="8837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Times New Roman"/>
              </a:rPr>
              <a:t>TASSEL Web Site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640640" y="5799240"/>
            <a:ext cx="1289160" cy="87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2560" y="231840"/>
            <a:ext cx="8829720" cy="23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Pedigree Viewer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(beta version)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22320" y="3189240"/>
            <a:ext cx="7307280" cy="17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rry M. Cassteve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stitute for Genomic Diversity, Cornell Univers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85880" y="5925960"/>
            <a:ext cx="535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upported by National Science Found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BI-0321685 and USDA-AR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474840" y="514440"/>
            <a:ext cx="8299440" cy="5857920"/>
            <a:chOff x="474840" y="514440"/>
            <a:chExt cx="8299440" cy="5857920"/>
          </a:xfrm>
        </p:grpSpPr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474840" y="514440"/>
              <a:ext cx="8299440" cy="585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 txBox="1"/>
            <p:nvPr/>
          </p:nvSpPr>
          <p:spPr>
            <a:xfrm>
              <a:off x="474840" y="514440"/>
              <a:ext cx="8299440" cy="585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 algn="r">
                <a:spcBef>
                  <a:spcPts val="799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1880" y="266400"/>
            <a:ext cx="883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Times New Roman"/>
              </a:rPr>
              <a:t>What is GDPDM?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018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atabase schema for holding data collected by QTL and Diversity Studie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1880" y="266400"/>
            <a:ext cx="883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Times New Roman"/>
              </a:rPr>
              <a:t>Objective of GDPDM schema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018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old the basic data behind QTL and diversity stud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ocuses on taxa, evaluation environments, trait values, genotyping experiments, and genotypic dat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oes not focus on genomic location, QTLs, detailed passport dat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as no dependencies on QTL schem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37960" y="257040"/>
            <a:ext cx="2730600" cy="15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3840" indent="-28116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GDPDM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93840" indent="-2811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Schem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178080" y="263520"/>
            <a:ext cx="5192640" cy="639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702320" y="228600"/>
            <a:ext cx="4441680" cy="63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2304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Germplas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2304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sic Pass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2304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tails link-out to germplasm ban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2304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rate groups of tax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2304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ports complex genetic pedigre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2304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llow seed lots and even pl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72880" y="1325520"/>
            <a:ext cx="4388040" cy="405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440" y="4657680"/>
            <a:ext cx="90424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port full range of ploi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 capture background on method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nects to genomic map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840" y="220680"/>
            <a:ext cx="3071880" cy="43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Genotyp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ptures wide range of approaches (SNPs, SSR, sequence alignments, isozym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997360" y="509760"/>
            <a:ext cx="6032520" cy="407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00160" y="212760"/>
            <a:ext cx="4402080" cy="58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Phenotype (trait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ntitative or qualitative trai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port ontology integ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nge of statistics can be recorded (mean, measure, median, std. deviation, etc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352760" y="1025640"/>
            <a:ext cx="4524480" cy="364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594240" y="81000"/>
            <a:ext cx="548460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Environm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ll field design can be recorded (down to the plant if desire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-Y coordin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sic planting information, treat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grates with locality infor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servations can be grouped into experi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6200" y="1147680"/>
            <a:ext cx="3291120" cy="4435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30T19:32:50Z</dcterms:created>
  <dc:creator>Terry Casstevens</dc:creator>
  <dc:description/>
  <dc:language>en-US</dc:language>
  <cp:lastModifiedBy>Terry</cp:lastModifiedBy>
  <cp:lastPrinted>1998-07-25T07:41:09Z</cp:lastPrinted>
  <dcterms:modified xsi:type="dcterms:W3CDTF">2006-06-29T03:59:38Z</dcterms:modified>
  <cp:revision>647</cp:revision>
  <dc:subject/>
  <dc:title>Task-Sensitive Cinematography Interfaces for Interactive 3D Learning Environments</dc:title>
</cp:coreProperties>
</file>